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D444-1F9A-4513-9E74-BD880F3688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2375-00E1-4F57-B310-802ED532D5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C711B-4792-4D7E-938E-8CF6DEC1F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93B31-5962-4A29-9EAB-437002388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4DA5A-56F8-4F34-99D0-720FA92A2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7C78D-445F-4528-80F3-DB8111CA1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94DD5-518F-4BD0-A565-0DEBCBB51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87A7F-262D-40A7-ADCB-E4E86D4DE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BD1C1-ADAD-4C74-9A95-D8627C609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941ED-0EFA-4F45-AC2B-2D0DDF6AA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62782-29F7-4C9C-BB92-17C3FC07E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F012D-EAF6-49AC-83A4-783F5DFD7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24E9A-E230-4904-8C46-783DA9879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DA836-851E-4433-98B7-88ADEBF95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FFCC-7184-45F7-BCE9-8D9CBE87A1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2T09:49:45Z</dcterms:modified>
  <cp:revision>26</cp:revision>
  <dc:subject/>
  <dc:title>PowerPoint Presentation</dc:title>
</cp:coreProperties>
</file>